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7DA9BE-C246-4618-B0A7-0C51DC2191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8C4966-6215-4B34-9964-03CC9224A3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 by Alexander Sayer Gard-Murr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CBE944-7BB0-4FD0-9BF8-A55BB1351C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rmany in Defeat. Map by Alexander Sayer Gard-Murr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CBE0EF-7E56-482F-A599-82005301E6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rman Losses Overseas 1919. Map by Alexander Sayer Gard-Murr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60DFFC-F2C7-483B-A613-054E07EAD5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7816-334C-45AD-95A4-373680B13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4CB9-651D-4DAB-AB35-D35DC2F6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BC19-3DB5-4F59-B58A-4F26E8D65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BF7C-F786-4750-BD26-D5486E257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9AFE-9F65-43DD-BEA2-5A2F01E7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4029-9D05-4FAD-A082-48E00EF2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F6EA-A02C-4040-B294-B573B902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897B-4FC4-4C1B-9380-AA88B155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3D1C-93B8-4F15-9FA3-64310FB9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CD7A-41FE-4ED7-AF31-6068DD02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7E79-1945-47D5-A3CD-6EF7D343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74BB-7695-4161-88B9-72655BA7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A7D52A-72A7-43A9-9422-3193163985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D47123-1645-46E4-9280-7ED4E59D99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Europe New.png"/>
          <p:cNvPicPr/>
          <p:nvPr/>
        </p:nvPicPr>
        <p:blipFill>
          <a:blip r:embed="rId1"/>
          <a:stretch/>
        </p:blipFill>
        <p:spPr>
          <a:xfrm>
            <a:off x="297000" y="533520"/>
            <a:ext cx="8618400" cy="56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Germany in Defeat.png"/>
          <p:cNvPicPr/>
          <p:nvPr/>
        </p:nvPicPr>
        <p:blipFill>
          <a:blip r:embed="rId1"/>
          <a:srcRect l="-20048" t="0" r="-20048" b="0"/>
          <a:stretch/>
        </p:blipFill>
        <p:spPr>
          <a:xfrm>
            <a:off x="-1219320" y="76320"/>
            <a:ext cx="114998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3" descr="Overseas Possessions.png"/>
          <p:cNvPicPr/>
          <p:nvPr/>
        </p:nvPicPr>
        <p:blipFill>
          <a:blip r:embed="rId1"/>
          <a:srcRect l="-9834" t="0" r="-9834" b="0"/>
          <a:stretch/>
        </p:blipFill>
        <p:spPr>
          <a:xfrm>
            <a:off x="-685800" y="380880"/>
            <a:ext cx="1044576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15:58:14Z</dcterms:created>
  <dc:creator>Watson Institute</dc:creator>
  <dc:description/>
  <dc:language>en-US</dc:language>
  <cp:lastModifiedBy>Jillian McGuire</cp:lastModifiedBy>
  <dcterms:modified xsi:type="dcterms:W3CDTF">2009-07-07T18:49:32Z</dcterms:modified>
  <cp:revision>2</cp:revision>
  <dc:subject/>
  <dc:title>Slide 1</dc:title>
</cp:coreProperties>
</file>